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D26503-021B-40D1-9F11-D059C8BB58E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BBF480-CD67-41AD-84D2-09E50E4A1F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7A04E1-31B9-4329-B154-54E9699BF6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92735C-13EB-4343-9442-0885BE903B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9440EC-93A4-4AFD-B109-E1DEFA64C2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7C240C-3A2C-43A9-9203-1362F5DD4A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D13A49-F33D-4BE1-950C-16D33086D8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AFA9C8-E80F-4C8B-9B06-011DAC6E75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42C2C3-A471-4ABA-9E48-21B193D6DB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F01B4D-1CB4-43E0-BAB7-6D1221720B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ECAA0F-DE0E-45AA-9291-531DAEA263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42FF2D-67DA-4F04-AD81-FB46186929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0B0632-0BCA-4BEF-AC7D-E55B4D291C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CAC3A9-68EA-4C0F-B4F9-8BA188BEC3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D8B7FA-E9DA-4A00-80E1-E563610C32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CC9565-772F-40C2-8431-C03B3E408B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A8495E-462C-441C-AB4F-5B650B6D86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10F18D-D0AD-476D-980A-6C5CED2C5E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2BC59F-4359-4AE1-BF9D-1C26F82A7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2FEBE5-ACBE-4749-8DE4-357F67FE90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91E-6052-4591-A78E-1627FA2D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4FB-E925-4EF5-B3D9-1780058E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0D1-91A2-4EC0-BB3E-6C6FDEEE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398-729B-4F19-B653-E107BECB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499A-468D-4CE2-825C-C75AC736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3B4B-BFD6-4988-BBA8-8473BEC2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34B2-0C97-4EB4-A806-FDEE2686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C60B-37E5-411F-83F5-BBF2377C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054C-6C7A-4149-9E08-0C0E9D13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0C1B-050C-4B64-BADE-3C7AEA7A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6E6A-CBB5-4EF0-8C7A-DDFB67FA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71C-6B94-4793-BE30-55853F62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1D0D-9655-4DAC-B80E-8A0ED2CE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F06E-1EA1-46A5-AEFF-B5558BC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44A1-4CD5-4FC6-A0DD-B64CFDC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DAFF-93F3-4722-A725-2AD165D2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264-5209-40B2-B1A4-3FD73998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5B6-A607-4B7E-96D3-DE5EF9CD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89D-3E81-46F0-BFEF-8C0AD06D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6FB-589C-49BA-9F4D-01118D08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D6D-457C-436A-ABA2-05BA2AAA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193-479E-4F6A-9894-69A1F861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095-9849-4525-B508-6F183952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219-3E56-4992-B4DB-E772830B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FBA4-0673-4477-BE08-2B3A2B6DE0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F0BA-D9D7-44DB-814D-3E3F626ABF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Legislative Branc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ring - 201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Content Placeholder 7" descr="Screen shot 2012-10-11 at 1.46.55 PM.png"/>
          <p:cNvPicPr/>
          <p:nvPr/>
        </p:nvPicPr>
        <p:blipFill>
          <a:blip r:embed="rId1"/>
          <a:srcRect l="0" t="-23862" r="0" b="-23862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Content Placeholder 8" descr="Screen shot 2012-10-11 at 1.47.46 PM.png"/>
          <p:cNvPicPr/>
          <p:nvPr/>
        </p:nvPicPr>
        <p:blipFill>
          <a:blip r:embed="rId2"/>
          <a:srcRect l="0" t="-25501" r="0" b="-255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Ses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ach Congress meets for </a:t>
            </a:r>
            <a:r>
              <a:rPr b="1" lang="en-US" sz="3200" spc="-1" strike="noStrike" u="sng">
                <a:solidFill>
                  <a:srgbClr val="cc0099"/>
                </a:solidFill>
                <a:uFillTx/>
                <a:latin typeface="Verdana"/>
              </a:rPr>
              <a:t>two yea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divid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sess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odd numbered years following ele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even, election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numbered – the Congress elected in 2008 is the 1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gress and officially bega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ssion Tuesday, January 6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number of the current Congres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ender and Ethnicity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es: 427   House: 347; Senate: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s: 108   House: 88; Senate: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n/Americans: 4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46;  Senate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panics: 3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34;  Senate: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n: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13;  Senate: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verage 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 of Representatives:  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ate:  6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lig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Content Placeholder 3" descr="Screen Shot 2016-01-12 at 1.08.20 PM.pn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35 Me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Qualific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itizen for 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7 yea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characteristics of memb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have been and are white 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s of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e in government (State or local leve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s serve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2 year ter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435 members must be reelected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both houses, the political party that contro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more than half of the seats is known as the majority par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ther is the minority par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ing control of a house of Congress has many advantage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80880" y="2286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Hou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Screen Shot 2016-01-12 at 12.58.33 PM.png"/>
          <p:cNvPicPr/>
          <p:nvPr/>
        </p:nvPicPr>
        <p:blipFill>
          <a:blip r:embed="rId1"/>
          <a:stretch/>
        </p:blipFill>
        <p:spPr>
          <a:xfrm>
            <a:off x="1165320" y="1295280"/>
            <a:ext cx="63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Screen Shot 2016-01-12 at 12.58.19 PM.png"/>
          <p:cNvPicPr/>
          <p:nvPr/>
        </p:nvPicPr>
        <p:blipFill>
          <a:blip r:embed="rId1"/>
          <a:stretch/>
        </p:blipFill>
        <p:spPr>
          <a:xfrm>
            <a:off x="762120" y="1981080"/>
            <a:ext cx="711180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53352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Sen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jority party provides the leadership of that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er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peaker of the Hou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osen from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ird in li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and majority party has significant power over the legislative proc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aker for the 1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gress is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Paul Ry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fter a vot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rk Twai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you were an idiot. And suppose you were a member of Congress.  But I repeat myself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at is expressed in this quo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y are members of Congress subject to comments by people such as Jimmy Fallon, Jay Leno, Jon Stewart,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Lead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leader of the maj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Kevin McCarth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(R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Whi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assists the speaker and majority leader in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pping u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pport for legis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teve Scalise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 (R-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Leader – leader of the min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Nancy Pelosi (D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Whip – assists the minority lea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Steny Hoyer (D-M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905120"/>
            <a:ext cx="871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state is guaranteed at lea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 deleg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the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representatives is determin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 is counted every 10 years by the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cens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atives are elec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tri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in states with more than 1 representativ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5638680"/>
            <a:ext cx="54864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eorgia"/>
              </a:rPr>
              <a:t>Representation Changes after the 2000 Censu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2" name="Picture Placeholder 2" descr="Screen Shot 2015-04-21 at 10.37.30 AM.png"/>
          <p:cNvPicPr/>
          <p:nvPr/>
        </p:nvPicPr>
        <p:blipFill>
          <a:blip r:embed="rId1"/>
          <a:srcRect l="326" t="0" r="682" b="0"/>
          <a:stretch/>
        </p:blipFill>
        <p:spPr>
          <a:xfrm>
            <a:off x="932040" y="612720"/>
            <a:ext cx="71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440" y="4659480"/>
            <a:ext cx="548640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eats gained/lost after 2010 censu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4" name="Picture Placeholder 4" descr="Screen Shot 2015-04-21 at 10.38.06 AM.png"/>
          <p:cNvPicPr/>
          <p:nvPr/>
        </p:nvPicPr>
        <p:blipFill>
          <a:blip r:embed="rId1"/>
          <a:srcRect l="-316" t="0" r="-154" b="0"/>
          <a:stretch/>
        </p:blipFill>
        <p:spPr>
          <a:xfrm>
            <a:off x="831960" y="612720"/>
            <a:ext cx="7394400" cy="4114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03-201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7" name="Content Placeholder 3" descr="Screen shot 2012-10-11 at 9.19.54 AM.png"/>
          <p:cNvPicPr/>
          <p:nvPr/>
        </p:nvPicPr>
        <p:blipFill>
          <a:blip r:embed="rId1"/>
          <a:srcRect l="-84083" t="0" r="-8408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12 - 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9" name="Content Placeholder 3" descr="Screen shot 2012-10-11 at 9.28.52 AM.png"/>
          <p:cNvPicPr/>
          <p:nvPr/>
        </p:nvPicPr>
        <p:blipFill>
          <a:blip r:embed="rId1"/>
          <a:srcRect l="-86107" t="0" r="-86107" b="0"/>
          <a:stretch/>
        </p:blipFill>
        <p:spPr>
          <a:xfrm>
            <a:off x="912960" y="1905120"/>
            <a:ext cx="811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ional districts are drawn by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pportionment occurs when reps are added/ta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cts are NOT to be drawn in a way that is advantageous for a certain group (political party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rymandering – drawing an odd-shaped district for political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st Gerrymandered Congressional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 for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at least 9 yea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characteris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, m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y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in government (state, House of Reps., et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s of Off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ors ser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erms that last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6 yea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ximately 1/3 of the Senate is up for reelection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2 Senators elected from each state for a total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portance of 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mers believed Congress would be immensely impor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 article (and longest) of the Constitution is dedicated to the Legislative body of the government of the U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7" name="Content Placeholder 7" descr="Screen shot 2012-10-11 at 10.37.16 AM.png"/>
          <p:cNvPicPr/>
          <p:nvPr/>
        </p:nvPicPr>
        <p:blipFill>
          <a:blip r:embed="rId1"/>
          <a:srcRect l="-10156" t="0" r="-10156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6" descr="Screen shot 2012-10-11 at 10.32.48 AM.png"/>
          <p:cNvPicPr/>
          <p:nvPr/>
        </p:nvPicPr>
        <p:blipFill>
          <a:blip r:embed="rId2"/>
          <a:srcRect l="-7748" t="0" r="-7748" b="0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9224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</a:t>
            </a:r>
            <a:r>
              <a:rPr b="0" lang="ja-JP" sz="4400" spc="-1" strike="noStrike">
                <a:solidFill>
                  <a:srgbClr val="003366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chard Durbin - (D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to the Senate in 1996; from Spring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 for election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ed Senate seat of mentor, Sen. Paul Si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17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 Kirk - (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in a special election held in to fill the term of Roland Burris; from Champa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yer by prof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the House from 2001-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ate Lead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President of the Senate is the Vice President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United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votes in case of a t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is present in the Sen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urrentl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Joe Bi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y-to-day leader of the Senate is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President Pro Temp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rmally the most senior member of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have as much power as the Speak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,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rrin Hatch </a:t>
            </a: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(R-P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Mitch McConnell (R-K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aj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John Cornyn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R-T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Harry Reid (D-NV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in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Dick Durbin (D-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42372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Aaron Schock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Resigned/Special Election to be held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7" name="Content Placeholder 6" descr="Screen shot 2012-10-11 at 8.56.30 AM.png"/>
          <p:cNvPicPr/>
          <p:nvPr/>
        </p:nvPicPr>
        <p:blipFill>
          <a:blip r:embed="rId1"/>
          <a:srcRect l="-501" t="0" r="-501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7" descr="Screen shot 2012-10-11 at 9.00.19 AM.png"/>
          <p:cNvPicPr/>
          <p:nvPr/>
        </p:nvPicPr>
        <p:blipFill>
          <a:blip r:embed="rId2"/>
          <a:srcRect l="0" t="-11615" r="0" b="-11615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920" y="838080"/>
            <a:ext cx="524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following questions on a piece of pape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371600" y="6019920"/>
            <a:ext cx="65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 have completed the Preview, share your responses with a partner or with the cla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5A5-D9E5-477B-8284-AF9031A67F9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0" y="5446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80880" y="838080"/>
            <a:ext cx="74678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hotograph and biography, what facts do you know about Congressman Schoc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ngs about Aaron Schock do you think are typical for a member of Congress? What things might be atyp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his background do you think would help make Aaron Schock an effective legislator? Expl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y will you and some of your pare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ble to vote for Aaron Schock in this ele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aron Scho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7" name="Content Placeholder 3" descr="Screen shot 2012-10-11 at 9.06.06 AM.png"/>
          <p:cNvPicPr/>
          <p:nvPr/>
        </p:nvPicPr>
        <p:blipFill>
          <a:blip r:embed="rId1"/>
          <a:srcRect l="-59538" t="0" r="-59538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9152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Darin Lahood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9" name="Content Placeholder 2" descr="Screen Shot 2016-01-12 at 12.30.24 PM.png"/>
          <p:cNvPicPr/>
          <p:nvPr/>
        </p:nvPicPr>
        <p:blipFill>
          <a:blip r:embed="rId1"/>
          <a:srcRect l="6367" t="0" r="6367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idence:  Dunlap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ital Status:  Marri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Occupation:  Ill. State Senate, Tazew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’s Attorney’s Office, Lawyer (Miller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ll, and Trigg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Political:  Illinois State Sen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ucation:  Academy/Spalding High School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ras College, John Marshall Law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thdate:  8/12/1928; Peoria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gion:  Roman Cathol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80640" y="609120"/>
            <a:ext cx="81630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hat makes for an effective    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legislator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Bi-cameral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aning </a:t>
            </a: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two hou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 – low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st to the peopl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representation based on 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 – upp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al state representation (2 per 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by </a:t>
            </a: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Article 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Co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ul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eat Compromi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Connecticut Comprom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J plan favored equal representation for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ginia plan favored larger states with higher pop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8:41:23Z</dcterms:created>
  <dc:creator>Stephanie Fogarty</dc:creator>
  <dc:description/>
  <dc:language>en-US</dc:language>
  <cp:lastModifiedBy>olsonl olson</cp:lastModifiedBy>
  <cp:lastPrinted>2012-10-11T18:42:25Z</cp:lastPrinted>
  <dcterms:modified xsi:type="dcterms:W3CDTF">2016-01-13T16:25:13Z</dcterms:modified>
  <cp:revision>111</cp:revision>
  <dc:subject/>
  <dc:title>The Legislative Branch</dc:title>
</cp:coreProperties>
</file>